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19E-B939-4586-BD03-39BEEA7E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111-F1D8-43F1-AA35-B092281F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115-C2D2-4084-924D-96B85A76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466-8559-41A4-8EDA-9927DFE6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3C01-DB8F-4BBE-AD62-3C639615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857-23D8-4D31-A3FC-F275B5FB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53FC-6BFE-4030-811A-51A95C78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67D7-9C86-4928-94E3-9446A911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4274-F053-4AFC-8D56-29E7807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34A5-8D9E-49F2-9A30-74E6302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997-C4D5-4BC1-8606-FECE571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073-6479-4721-A682-133C4DF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38FF-4E0A-4D7C-BD03-EE2ADAB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AE7B-3D70-4D40-9330-A6418CC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05DE-A9B3-4CC5-8131-0E47722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3D8D-B7E6-4EE7-8C2F-A67496D4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751-DB06-43E1-83B2-FE328DDF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C1D-3C60-4251-8EA2-94F7FA48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50E-92FB-4B31-9CF0-E41525E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54A-E54D-4089-9D18-89CA15A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631-0BC8-4A13-BDED-7002ECD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C9D-1C9B-4C68-8143-A14560E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011-B0E7-4FDD-B5DC-8781361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7C3-9944-4C13-A048-6AA182F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EBC-776C-4A4A-A37A-474EF2964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289-790F-438B-8912-3889848B8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2120" y="228600"/>
            <a:ext cx="76197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ВЛА АВАЙ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4343400"/>
            <a:ext cx="840096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0000"/>
                  </a:srgbClr>
                </a:solidFill>
                <a:latin typeface="Arial"/>
              </a:rPr>
              <a:t>ГОСПОДИ ЕЛА В СЛАВ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6120" y="228600"/>
            <a:ext cx="3996720" cy="558036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0000a4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ДЕВЛА  АВ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АМЕН ТУ ТЕ ДИК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ТИ СЛАВА  ТИРИ ДЕВ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ТЕ ДИК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САРЕ АНГЕЛИЕ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ДЕВЛА ТУ АВ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СЕ КАСКЕ ДЕВ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ТОРО ДЕЛОС КА Д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7960" y="1832040"/>
            <a:ext cx="4025880" cy="3385800"/>
          </a:xfrm>
          <a:prstGeom prst="rect">
            <a:avLst/>
          </a:prstGeom>
          <a:gradFill rotWithShape="0">
            <a:gsLst>
              <a:gs pos="0">
                <a:srgbClr val="0000a4">
                  <a:alpha val="20000"/>
                </a:srgbClr>
              </a:gs>
              <a:gs pos="100000">
                <a:srgbClr val="ffcc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ГОСПОДИ Е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ВЪВ ЦЯЛАТА СИ СЛА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СЪС ВСИ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ТВОЙ АНГ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ТЕБ ДА ВИ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8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040" y="228600"/>
            <a:ext cx="3787920" cy="649296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САР О`РО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НУПРЕ КА ДИК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АСВЕНЦА КО Я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АМЕН КА ЛОША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КАЙ ТУ АВ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АМЕН ТУТЕ 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САРЕ МУЛЕН 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ДЕВЛ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КА ВА ВАЗД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78320" y="1222200"/>
            <a:ext cx="4935600" cy="484884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ВСИЧКИ 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НА ГОРЕ ДА ПОГЛЕДН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СЪС СЪЛЗИ В О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НИЕ ЩЕ СЕ РАДВА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ЗАЩОТО ТИ ИДВА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ВСИЧКИНИ ДА СП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СИШ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Arial"/>
              </a:rPr>
              <a:t>И МЪРТВИТЕ ДА ВЪЗКРАС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0" y="152280"/>
            <a:ext cx="4124880" cy="649296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ffcc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ШУНЕН МЕ ЧА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МЕ СО ПЕНА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МЕ БУТ МАНГ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ТУМЕН ТЕ СПАСИН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КИ КАНГЕРИ МЕ 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САРЕ ТЕ АВ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МАНЦАР КИ СЛА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САРЕ ТЕ ОВ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200" y="1600200"/>
            <a:ext cx="4810680" cy="478656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ЧУЙТЕ ДЕЦА МО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В МОЛИТВЕНИЯ ХР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АЗ МНОГО ИСК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МОЯТ ГЛ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ВИЕ ДА ЧУЕТЕ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3300"/>
                </a:solidFill>
                <a:latin typeface="Arial"/>
              </a:rPr>
              <a:t>ЗА ДА БЪДЕТЕ СПАСЕНИ</a:t>
            </a: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8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1:32:47Z</dcterms:created>
  <dc:creator>TrifonTrifonow</dc:creator>
  <dc:description/>
  <dc:language>en-US</dc:language>
  <cp:lastModifiedBy>TrifonTrifonow</cp:lastModifiedBy>
  <dcterms:modified xsi:type="dcterms:W3CDTF">2006-01-11T16:29:27Z</dcterms:modified>
  <cp:revision>2</cp:revision>
  <dc:subject/>
  <dc:title>Slide 1</dc:title>
</cp:coreProperties>
</file>